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3392F-0C8D-4AED-BC56-7A34AA224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4B2E-E7E8-4D94-B0F2-F5479E3F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2A13-CF17-451B-943B-28DC36B23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B4E5-41BA-4B7C-BB59-E1DF402B6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BA45-B679-4237-AD9A-255D44C62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49795-884F-4D19-A612-F62A0CE1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7CFD-CD13-45FC-B6E9-0DF5CEE6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0191-CD19-4656-87A1-FC5696065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EB4E-3BAD-4D7E-944A-7FD45A394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4115-BDE0-410F-9413-CF2C47D90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FA2D-A877-4C9F-B361-A386B1DC2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F640-3E42-4A62-A8A5-09BCC6B1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CE61-B640-44A4-9A88-E07809CEC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02040" y="490680"/>
            <a:ext cx="711000" cy="996840"/>
            <a:chOff x="3002040" y="490680"/>
            <a:chExt cx="711000" cy="996840"/>
          </a:xfrm>
        </p:grpSpPr>
        <p:sp>
          <p:nvSpPr>
            <p:cNvPr id="42" name=""/>
            <p:cNvSpPr/>
            <p:nvPr/>
          </p:nvSpPr>
          <p:spPr>
            <a:xfrm flipH="1">
              <a:off x="3003480" y="522360"/>
              <a:ext cx="704880" cy="9651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 flipH="1">
              <a:off x="3034440" y="719280"/>
              <a:ext cx="88920" cy="889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 flipH="1">
              <a:off x="3587040" y="719280"/>
              <a:ext cx="88920" cy="8892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200" bIns="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3455280" y="835200"/>
              <a:ext cx="42840" cy="42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3385440" y="835200"/>
              <a:ext cx="42840" cy="42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3312360" y="835200"/>
              <a:ext cx="42840" cy="42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3239280" y="835200"/>
              <a:ext cx="42840" cy="42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3420360" y="924120"/>
              <a:ext cx="42840" cy="42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3350520" y="924120"/>
              <a:ext cx="42840" cy="42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3277440" y="924120"/>
              <a:ext cx="42840" cy="42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204360" y="924120"/>
              <a:ext cx="42840" cy="4284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3609720" y="1266840"/>
              <a:ext cx="6696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3425040" y="1266840"/>
              <a:ext cx="6660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3215520" y="1266840"/>
              <a:ext cx="6660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3034440" y="1266840"/>
              <a:ext cx="6660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607560" y="1386000"/>
              <a:ext cx="6660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3425040" y="1386000"/>
              <a:ext cx="6660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3215520" y="1386000"/>
              <a:ext cx="6660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3033000" y="1386000"/>
              <a:ext cx="66600" cy="698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" bIns="2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373200" y="968400"/>
              <a:ext cx="0" cy="452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359160" y="1420920"/>
              <a:ext cx="5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 flipV="1">
              <a:off x="3330360" y="1036440"/>
              <a:ext cx="0" cy="3841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3292200" y="1420920"/>
              <a:ext cx="52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>
              <a:off x="3441600" y="963720"/>
              <a:ext cx="0" cy="301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259080" y="1028880"/>
              <a:ext cx="0" cy="247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3162240" y="868680"/>
              <a:ext cx="77760" cy="52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165480" y="911520"/>
              <a:ext cx="0" cy="509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H="1">
              <a:off x="3101760" y="1420920"/>
              <a:ext cx="777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498840" y="871560"/>
              <a:ext cx="54000" cy="7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546360" y="935280"/>
              <a:ext cx="0" cy="48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531960" y="1420920"/>
              <a:ext cx="74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V="1">
              <a:off x="3406680" y="782280"/>
              <a:ext cx="1440" cy="47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06680" y="797040"/>
              <a:ext cx="133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531960" y="793800"/>
              <a:ext cx="114480" cy="139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639960" y="925560"/>
              <a:ext cx="0" cy="344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3335400" y="784080"/>
              <a:ext cx="0" cy="49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3181320" y="797040"/>
              <a:ext cx="1648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>
              <a:off x="3061800" y="795600"/>
              <a:ext cx="127080" cy="10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>
              <a:off x="3068640" y="887040"/>
              <a:ext cx="0" cy="3733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 flipV="1">
              <a:off x="3305160" y="960120"/>
              <a:ext cx="25200" cy="81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 flipV="1">
              <a:off x="3234960" y="966600"/>
              <a:ext cx="27000" cy="6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002040" y="490680"/>
              <a:ext cx="711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 Black"/>
                </a:rPr>
                <a:t>iw3ic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6T15:27:45Z</dcterms:created>
  <dc:creator>iw3ici</dc:creator>
  <dc:description/>
  <dc:language>en-US</dc:language>
  <cp:lastModifiedBy>iw3ici</cp:lastModifiedBy>
  <dcterms:modified xsi:type="dcterms:W3CDTF">2005-03-16T15:44:45Z</dcterms:modified>
  <cp:revision>3</cp:revision>
  <dc:subject/>
  <dc:title>Presentazione di PowerPoint</dc:title>
</cp:coreProperties>
</file>